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43713" cy="9129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43600" cy="91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77920" y="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185C5D-9D69-45F4-8DBB-35B6F5EE0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8040" cy="41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7240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77920" y="867240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725F35-ED54-4083-AB01-25CCDC08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0" y="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3878280" y="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4B46A6-4737-49EC-BAF4-C9CDF0534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804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CC1-0E23-4276-9BE8-B3B504BE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553-95EF-4F64-AEC1-612A0B1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95E51-929F-4B83-9A39-D428B919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2F7A0-13E2-4565-B683-6664238E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96262-C4CE-4FB2-87D7-ABD20510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2362F-DA1B-42D7-892B-96CA8952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41685-F342-4336-A0F1-1DE63C9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FBAAB-E1C3-45F9-9739-E3DD0949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E4402-C37E-417C-AF57-2619C5B2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8109E-58F9-4C64-8D4F-7FC02828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D5A02-3740-49CA-9EE7-D515A1F7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EC30A-13B6-4391-A08C-9AFF7170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BD9-34E7-4728-9295-3462B464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0C4D1-5DB5-4BB5-970F-BA495E87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985AA-66E4-42AF-AC92-FFAD425A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9E475-AB5D-47CF-8B6F-3282A937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DDBED-95BA-496E-B95A-089369E6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3D860-A1EB-4B4A-8A58-E929FBF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4F783-9E3F-4929-834E-D75579C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31B5-D323-44C5-AE98-43FDD95E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967F3-2207-4EA9-811D-55B2EFA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CF0BE-7215-49BF-8295-702C05D0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BCCAA-2F6F-4F08-A9A3-E3914C71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DC7-24D4-4740-88D7-E7705FCF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899C9-2168-460D-8F5F-E2E2DF6C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72A5F-B197-40DE-B2E5-094F676C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53839-ED37-41F8-B1FB-E2271901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13530-6976-4F0D-87E5-2FCA0D0E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33E72-3F07-4738-9DBA-37061A33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F2697-5AE8-4AE2-9C1D-13C7E7AF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609C4-B646-448F-ADD9-F1F0AA20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491AE-E47C-4619-95A9-8B402BF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8F72A-6FAD-4A67-9805-22C85C0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6691F-AE4B-4F84-B4B4-6A62194A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10F3-8EF7-42E5-8597-4DFF49C0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2985E-D94A-4EEE-84F4-C4C54E25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93A7F-3491-4738-B3B8-A3133076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5D3D-846B-4930-A4CB-CE9F4B22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2F67C-8F97-4C40-9473-E435F0F7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F77CC-915B-4193-9DEB-6DE8283E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5C694-7C18-4BD6-8AE8-9D11F3ED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DAD20-C0F6-4FFF-A0D1-695AC6E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36842-F57A-4886-9E53-7B22A2B8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B34CC-376E-4586-853A-5E214AC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2B474-8C9E-4B87-B3D5-435C292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7FD2-F58B-44C2-B782-FC169B44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2E7DD-8DDA-48EF-A8FF-3C02060F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13FA2-6515-4047-AF2F-DC72974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866FF-B316-490C-B094-10DEA9DD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831A3-42CB-48F7-A677-315511C3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E7C5C-136B-41C5-AC15-46C0CD90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7616-43CC-4D9D-AE2E-DBF1BD5C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B8CD-416E-461D-91E9-49A369EA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0430-48D3-4AE0-851A-6145D6F6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4754-BA5A-4744-80A9-0240EF3E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E564-E064-45FD-A015-F3BC594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1D4-8697-4877-BB5D-3950F7EF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D1A9-2124-4A28-8C64-A7F3EE0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1802-5CAC-4E19-B058-381D9BA4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76D9-625E-4803-821E-28E54EED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2899-7139-499B-9C12-B4B45576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B6CF-6E07-4FD6-9886-F72D6E61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30B0-F1C7-4F47-955A-17439D8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AD5B-9A7F-4361-AD3B-985300F6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57F5-9D33-47F6-9D32-EC8494D1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4FE5-84CB-4123-9F61-44AE7222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841B-BF4C-47F2-B480-C26339C5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2EA-E267-419C-9CA6-40FE186C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223C-9759-46CC-AE96-4B3FC446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4B03-E66A-463C-AA4D-20115A7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A842-241A-4A96-8435-A8AC86C8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9C28-5C98-406F-A0E9-2DA4519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9C8D-EDE7-4228-A33B-FA571F54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62AF-5633-4E33-9ACC-C9EA2D69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94B7-FD6C-4E67-B011-86E7980D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7010-9E61-4DC0-8435-34BD003B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71F38-C02D-4419-AF75-F42AEF2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8F90-6F56-4BF3-B32F-BB2FFE00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8AA-79A9-44CB-8BDF-D42E9B3E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8228-6BF7-4EC2-962D-99DD8B89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DEDF-E816-447A-A288-8EE874FE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1A49-7DC6-403A-A322-A1F0A63A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2A3B-3EF8-453C-844D-24E7A6F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851A6-903A-4E7D-AE64-3994B52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EE7E-C4C9-4AC7-818A-34991D66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D866B-43BF-4188-9173-6497D58E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B68B-58F3-4D27-9983-D7381CF0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3EF2-ABDC-49DB-91C9-7CB1F64B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D3A3-E35F-457F-8BED-519B70F5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E53-5D98-4742-BD2E-C6362E73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9F5D9-7781-46D2-AF01-4D8F3224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9930-7A41-4344-91DA-A7D75CF3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52566-CC86-4866-A56D-F7A62811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3E43A-85DF-4FC0-8E43-17653CFC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79EC-94D9-4F52-AA7A-35313399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65004-1113-4629-8361-3029A4A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7D858-C6C7-45E6-9D57-05FCCD8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D585-2F7C-440D-A929-61C071A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6EF40-C5D1-4301-9439-16704067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3235-090D-4FDD-BB0E-F9FDD2DD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ED7-6B2B-40A0-B0D5-622E46F2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2558-0524-45A8-9860-27414384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19B7-CA03-4589-9435-B996EC27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15C2-DAC3-4C70-A6DF-0433055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3CF3-E801-40D5-B0E0-117FE500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1D3DA-A5D9-4FD5-81E3-519CB30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A301B-6C8E-4C92-83E0-0B9D59A0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7570C-65F0-4694-A42C-522812B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213A2-F600-43D7-9FCD-25D3D8F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FE096-C9D9-4C22-8188-7FC56D2E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7D35-7183-4322-A33F-36CE955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AE9-DBC8-4DB4-96B1-E25BC567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6F3D4-A60A-4AD3-AD54-E28D1F79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ADE1F-C7A9-4B79-9D72-3C0F587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D9EE-6B1E-45E0-858E-CBEE1BEE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ADC35-44E0-4B5C-AAAA-4435B74E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263FC-A29C-4ECE-A6AD-563E229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95E9-D9DC-4BB3-9430-BB390244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ABD05-315E-4F07-B31B-BBF4B1E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F46B8-2FF0-459A-BBF6-231A496C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7534-FB6D-4778-A0FB-A191A96B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AEF9-D842-4941-B6CF-58DF2EF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8C5-8258-497E-BD2E-03312BBC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D926-849D-4FB5-8C68-F98D92FB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A733-FB09-4C1A-A738-6450F3C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D0040-42FB-46B0-A3C4-CE97EB5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6FC9-517A-4200-904B-DE4FE208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E4847-9E5C-45AD-AB6F-A1C62798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F8301-D8D3-42A1-A6C9-E0CB2A07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B5F39-CA81-4E1C-BC90-17A77354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C7C74-666D-4BDB-A278-26504405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4371D-7534-4E13-9AF9-21373DD5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1FAE5-2F81-48C9-B051-1EBBB3EB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E44-0A22-4781-97D4-64B9FBD2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6D6CE-B60A-420E-B9A5-654A4C31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B7B63-3855-45B2-98B9-78805AB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58E08-429F-4FA1-AA4C-D82F414A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16048-B2E6-4943-8E37-6CC2923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3981D-4224-45A1-8E96-E4D20998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44EB-1950-4D5F-B8EF-FB86365F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B1C68-5786-408C-AACF-1BB1866E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FDB69-324C-4CB3-84DE-A1C99D25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3D41D-D6CF-40A6-92B9-E635EE6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098F2-1D5A-4657-BD11-89A9B6C2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BD94-0272-43D0-A0BB-92ED7F26A8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673B-C219-4514-8276-69E5C798F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72A0-2024-422F-9C62-E8C6396A46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45F7-D846-42D9-B53C-0F95EC8DB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E8B-69D3-419B-8F19-903CAF2EB6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69C1-2840-4AD2-A5AB-64C91D3B7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7230-42C5-40E8-ACD8-AA0E4E69BF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046A-A924-47A8-90BF-8B226C38C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B92E-6A84-458C-8AA4-FFE322EFBC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B41B-998F-476B-BA7B-D8174E042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39FF-B42E-4396-97D8-EE7B695786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8DA5-7562-473E-8D69-D853A1F2B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6DD5-047A-4C73-B61D-8B9DFE5A4F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8FAF-5A66-4FF4-BB07-C55671F0F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3BC3-CBA0-4D7E-B362-22174B74E1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5D5A-9C8C-4D5C-87FD-528CDB1DE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09B4-08D2-4449-A190-9B07EA1E88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9074-531F-4B78-B986-48D88B3FB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CDD1-F521-465E-B172-42CD345BF5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F61A-0687-4876-B39E-BB4C0BC59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100-9A9D-43AF-90D4-315782BD3D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C0D8-BB79-41AD-B218-4520B64E7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45DB-9BB7-4FBD-B2FA-0AADC42992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76C7-143B-4A1A-88F4-D9D62939E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CB24-35BE-4FA5-87DD-1C2E5E9B7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0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1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92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1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2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3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4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5">
            <a:hlinkClick r:id="rId9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6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7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8"/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gu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e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L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209-DB2E-4836-9E5D-E1735160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380880" y="1447920"/>
            <a:ext cx="8467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n a person asks, “Are you pulling my leg?” he or she is using this type of figurative langu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B13B-2F89-4840-BD55-A4D187275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084760" y="1905120"/>
            <a:ext cx="57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B1D4-C0ED-4036-A0A8-E930B9592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57200" y="144792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r shoes were as big as a boat (not simil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9EAD-B85E-44E7-A4B7-A8E7AA4D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"/>
          <p:cNvSpPr/>
          <p:nvPr/>
        </p:nvSpPr>
        <p:spPr>
          <a:xfrm>
            <a:off x="1371600" y="27504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hyberbol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B726-B279-4AE7-A1AF-7164FF97C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990720" y="1905120"/>
            <a:ext cx="71625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made me remember the movi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e Wizard of O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C67A-FFF2-4639-B55C-D7E9D9237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737720" y="2209680"/>
            <a:ext cx="54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allus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7E6B-D105-433C-BCB9-6CE39823F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304920" y="48744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-363600" y="1828800"/>
            <a:ext cx="996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 a boy who makes a rash dec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day a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happens in the story (not on your li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82E2-C85B-438C-898A-5243EF9DE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2430360" y="1981080"/>
            <a:ext cx="42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plo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A680-C09F-4A18-B49D-35B3B160B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525240" y="2057400"/>
            <a:ext cx="857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act that Sammy quit working 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&amp;P” and the audience/r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d not expec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341-F35C-4C7E-9635-C8E9C324A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06800" y="2209680"/>
            <a:ext cx="46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iron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10FF-1449-4A2D-ACED-91CD11C3E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80880" y="762120"/>
            <a:ext cx="853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rper hates hamburgers” is an example of this type of figurative langu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5152-6530-4722-BF02-D68EB09BA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219320" y="1676520"/>
            <a:ext cx="70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’s not fat, she is just a li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t thick or big bo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581-02D8-4084-B73F-5261E0E67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447920" y="1988280"/>
            <a:ext cx="62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euphemism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AA7D-0D7E-4A79-8F78-D0A666EFE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277920" y="685800"/>
            <a:ext cx="841356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narrator tells the story, we say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told 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on point of vie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051B-9673-495C-9404-881640F65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996840" y="2209680"/>
            <a:ext cx="680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thir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son point of vie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0D7D-9217-4981-B9DE-46D22BFE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027080" y="2209680"/>
            <a:ext cx="756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without using like or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9647-ACB7-49EF-B0C1-37758DD44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396880" y="247032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taph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B701-6862-47AC-8745-6C6AE082D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1737000" y="1981080"/>
            <a:ext cx="525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ge/gross exagg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CFB4-077F-4E85-B6C8-8F119290A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2337480" y="2664000"/>
            <a:ext cx="44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hyperbo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8603-7775-441F-9480-59CF11F79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3120" y="2816280"/>
            <a:ext cx="783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something turns out differen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 expec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AEB1-1864-4376-9719-833BACF3C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971440" y="2698920"/>
            <a:ext cx="31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iron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C55C-7A3E-4B2C-9F71-30B51C7D6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286000" y="2784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1551960" y="1752480"/>
            <a:ext cx="63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alliter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C9BD-1366-40E0-BE83-A99D4DDA6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1827360" y="2057400"/>
            <a:ext cx="535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way in whi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peaker tells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2323-35D3-4ECE-B3A8-2D9FB3E2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1794960" y="2435400"/>
            <a:ext cx="48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oint of vie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27BD-54B2-4D85-A849-D03D24CC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735480" y="2057400"/>
            <a:ext cx="739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overall feeling, place, and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which the story takes 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8155-02F5-4B2F-A52F-2801EB086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2647080" y="2546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et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4B91-29F4-4A36-8C85-EB44FE18F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1079640" y="2435400"/>
            <a:ext cx="65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etition of consonant s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95BC-CD14-461F-9ABD-299291108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2059200" y="2435400"/>
            <a:ext cx="43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lliter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3510-3E8D-4FC9-858D-FEE9435E4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24160" y="220680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main subject, message, or les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10B5-1252-4704-BD18-D70BE578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2535120" y="228276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A269-8CFF-434C-B7D8-870E6D82A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761040" y="1978200"/>
            <a:ext cx="737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ring (reference to) someth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tistic or histor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3FB8-6ED7-4277-80D2-BA486919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2427840" y="2359080"/>
            <a:ext cx="37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llus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7D63-F421-45CB-96D2-E530057AD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447920" y="1087920"/>
            <a:ext cx="624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woosh, bang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uzz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e all examples of this type of figurative langu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D859-62F2-4E49-A4BB-E0D1B8619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96720" y="2133720"/>
            <a:ext cx="83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ds that imitate the sound they cre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17FB-4129-47D6-BDD8-DFCFA4B56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631880" y="213048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onomatopoe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6F56-07FA-4CEA-8BAE-BCEBBD961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"/>
          <p:cNvSpPr/>
          <p:nvPr/>
        </p:nvSpPr>
        <p:spPr>
          <a:xfrm>
            <a:off x="1447920" y="2590920"/>
            <a:ext cx="6248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2256120" y="1981080"/>
            <a:ext cx="45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cary sun shi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t personific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CB12-DC6D-4756-8544-870E5356C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2260800" y="2089080"/>
            <a:ext cx="43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lliter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CD29-C990-4D33-B5EE-5A3349D09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646640" y="2206800"/>
            <a:ext cx="622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&amp;P”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in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e in Bost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E3A5-0455-4810-A9CF-D639386E1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2590920" y="1981080"/>
            <a:ext cx="37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et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69E9-EC0F-4E70-80C2-25CA3B066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887760" y="2133720"/>
            <a:ext cx="732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the s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ttle Red Riding Hoo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ver talk to stran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592A-96E1-4DB7-8B59-8C079C92D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2755800" y="24354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7D37-06C7-4FC8-8D2A-D2A0202EC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516960" y="1523880"/>
            <a:ext cx="8337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lliam, stop hitting me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not I’m just stretching Rebecca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, o.k. then glad we are still friends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275C-3F94-4282-AA34-9B312EA81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1590480" y="2359080"/>
            <a:ext cx="568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dialogu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DDD6-E27E-462B-93E0-DBFAFAC43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220968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onomatopoei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494C-0367-4722-A192-28AB738F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901160" y="2362320"/>
            <a:ext cx="52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ngel is an example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99F3-D3AD-4D01-B231-BA00B9968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1509120" y="2209680"/>
            <a:ext cx="61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antagonis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D5EB-2CA9-4E90-9B4D-FA86F9590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57200" y="91440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r teacher say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ve told you a million times to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name on your paper,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is using this typ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gurative langu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A102-56B1-4D44-9EB7-8200A14A5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209680" y="1828800"/>
            <a:ext cx="449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hyperbole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7CC-1DB4-4F46-89BB-1EB59DAEA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947520" y="1828800"/>
            <a:ext cx="725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paintbrush danced alo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 is an example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 of figurative langu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9327-267C-46F0-8F9E-8ACA970E5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1371600" y="183636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personific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Nvasquez</cp:lastModifiedBy>
  <dcterms:modified xsi:type="dcterms:W3CDTF">2009-09-29T21:11:15Z</dcterms:modified>
  <cp:revision>97</cp:revision>
  <dc:subject/>
  <dc:title>Blank Jeopardy</dc:title>
</cp:coreProperties>
</file>